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88E-E781-40D6-860F-FC5E3C64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DFF-69A6-4144-B167-22162A36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8ED-CF9D-4B03-B96D-5BDDA23A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CDA5-6FBE-433A-A634-1C00160D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BF21-A362-4CC2-AB8B-08DD98D0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13E9-A446-4039-B6BC-AB431070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D4B4-574A-4EBF-A951-45C747DC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9488-8753-41CA-9FB1-EC31A50F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D693-37A5-4CA3-A6BA-B25E3056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01D2-9D18-47F6-877D-9B9A3C5F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99FE-4813-4AF9-97FE-700A1C2B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5C1-09A5-4F3D-A3CC-941B8C11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B07A-6F26-4E4F-BB8A-8A760DF4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F152-9C75-486E-BF2E-392A65BE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96B4-0885-4692-9B9D-4E7ADC06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124B-BC16-4BA6-A761-5F33D6DA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D143-AAF7-4373-94B4-F45D18F7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C09-EBB1-4147-80CC-1C405C7C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357-D443-4945-BA8E-A8955CDC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72C-4133-4E8B-87C0-142BFAC4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C5D-154A-41C7-8B74-F1B10E8D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309-A5ED-4F7A-977C-FBD77887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1608-3EA6-40BE-B2E5-0FB9DB81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C9A-CAFB-4E57-81B6-0586FE71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B8EC-E925-4880-B3FA-6BA12FF8CB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BDC3-345E-487B-824F-10B40D95E8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ЛЕКЦИЈА КАНДИДАТ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и ОРЈЕНТАЦИЈ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762120" y="16668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стали тестов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цински тес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и на дрогу и алкох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играфски тес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нтервј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ајчешће коришћен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иктор у селекцији кандид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иликом интервјуисањ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с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конт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увеличавање негативних информ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нтервј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е услед разлика у раси, националности, старости и по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првог у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ало гр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претераног утицаја невербалних фа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погрешног разумевања и меморисањ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рсте интервју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руктурира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структурира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луструктурира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руктурира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броју осо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је воде интерв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ндивидуал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ан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имс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оцијализ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ознавање новозапослених кандидата са доминантним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редности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тавови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ормама понаш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 организациј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ријентац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упознавање са пос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валуација квалитета селекц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Три критерију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алид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цио сел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топа почетног усп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Трошк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рошкови тест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рошкови грешака у селек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грешан избор кандид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бијање добрих кандид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елекциј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оцес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збо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змеђу квалификованих кандидата за одређени посао и доношење одлуке о његовом запошљавању или одбијањ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ци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елекције је предвиђање будућег понашања потенцијалних кандидата и њихових перформанси на пос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инципи селекц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Људи 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еђусобно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злику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 погледу многих особ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зличити посл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хтевају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зличите особи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комбинације особ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зли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змеђу људ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је могућ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очити 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ери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оји веза измеђ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едикто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особина људи) 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ритерију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успешност обављања посл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рење предиктор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свак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едикт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треба наћи одговарајућ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нструмен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а се фокусирати н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кључне предиктор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графија и формулар за приј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Анализа биографских податак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V (Curriculum Vit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ар за пријављ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тивационо пис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естов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Врст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тест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исани тес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стови узорака по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рни цен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дицински, физички и полиграфски тес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исани тестов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стови 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гнитив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пособности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ербалне, нумерич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сихомотор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пособности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брзина, перцепција, тач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стови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еликих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именз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кстравертност, Пријатност, Свесност, Емоционална стабилност, Отвореност за иску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стови интерес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естови узорака посл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 на практичним ствар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мулација реалних услова на пос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упи су за спровођ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њују се када им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њ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број кандидата, обично на крају процеса сел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З: перформансе током ових тесто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рни центр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ично се користе за селекцију кандидат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 менаџерске пози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исте се различит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ехни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ерење у гру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ерење помоћу гр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итуациони тест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-basket тест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групна дискусија без вођ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грање улог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тудија случа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2-24T06:44:24Z</dcterms:modified>
  <cp:revision>165</cp:revision>
  <dc:subject/>
  <dc:title>Soft and Hard Skills Development: A Current Situation in Serbian Companies</dc:title>
</cp:coreProperties>
</file>